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5412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DE0C-C6DF-4CB1-B4B7-267BAC9A97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D707-1D46-41C3-8065-DA0419F6E0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730-46B8-4AD6-945C-5C244F52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04E-F436-4C77-A1A3-62620F59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BC7-0FDD-40EC-BBAB-A7CCAFAB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E3D-9917-47D5-9CBE-924ECDE6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896D-B603-4012-A26D-235DA310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A461-6652-459F-A4BD-0AC120B4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883B-A729-43C9-9D10-3DCA9E3F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4592-3215-43E6-A160-B393F0F6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1801-9243-4FFA-896B-3FE167C4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F3D6-8D97-4774-84CD-1E3961A7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870A-1100-464A-8EFB-E2208C2E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F720-A259-4D4C-A7E7-1EB96486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28ED-422B-4DF3-B662-CAA6CFDE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0A00-86E7-4AE9-A967-C020956D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612A-EB65-440B-8085-893911AE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4BA9-0705-445F-B48D-08AF98B4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B202-9E61-446D-9591-CDDBC862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035-6960-4B18-A4BF-58057EEB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8F0-7018-4B28-81FF-3F0F94B5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92C-163A-4F26-B412-2D5A3A03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3B3-8B36-483E-8151-A314EC8A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0997-E52C-4965-B814-EF795338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1DD-5EF5-4B6F-8C50-2AE2A02F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E6B-BB83-44E2-8042-7D362971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5412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c541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820C-7EE6-4DBA-8E91-4985E396A0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5412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c541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45EE-1A8F-42C1-9BA0-C8BDC9555A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c5412"/>
                </a:solidFill>
                <a:latin typeface="Times New Roman"/>
              </a:rPr>
              <a:t>План урока:</a:t>
            </a: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суждать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оказыва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лать вывод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крепля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вторя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ценива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c5412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7c5412"/>
                </a:solidFill>
                <a:latin typeface="Times New Roman"/>
              </a:rPr>
              <a:t>Решение задачи. № 4.  </a:t>
            </a: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7 · 4 = 28 (чел.) – мальчи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28 + 7 = 35 (чел.) – все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28 – 7 = на 21 (чел.) – мальчиков больше чем девоче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: 35 человек , на 21 человек больш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5 • □ =15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           18 - □=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5 •  □=0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            □ • 34=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4 + □=1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            □ • 17=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c5412"/>
                </a:solidFill>
                <a:latin typeface="Times New Roman"/>
              </a:rPr>
              <a:t>Закончите предложения:</a:t>
            </a: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Я сегодня узнал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не было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Я рад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c5412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р. 83 № 6,7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бочая тетрадь, с. 57, № 1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c5412"/>
                </a:solidFill>
                <a:uFillTx/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7c5412"/>
                </a:solidFill>
                <a:latin typeface="Times New Roman"/>
              </a:rPr>
              <a:t>Замените умножение сложением:</a:t>
            </a: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44560"/>
            <a:ext cx="16668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000000"/>
                </a:solidFill>
                <a:latin typeface="Vrinda"/>
              </a:rPr>
              <a:t>·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3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000000"/>
                </a:solidFill>
                <a:latin typeface="Vrinda"/>
              </a:rPr>
              <a:t>·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2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000000"/>
                </a:solidFill>
                <a:latin typeface="Vrinda"/>
              </a:rPr>
              <a:t>·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1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rinda"/>
              </a:rPr>
              <a:t>·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0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197800" y="1639800"/>
            <a:ext cx="32076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782160" y="414972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c5412"/>
                </a:solidFill>
                <a:latin typeface="Times New Roman"/>
              </a:rPr>
              <a:t>Найти значения выражений</a:t>
            </a:r>
            <a:r>
              <a:rPr b="1" lang="ru-RU" sz="4400" spc="-1" strike="noStrike">
                <a:solidFill>
                  <a:srgbClr val="7c5412"/>
                </a:solidFill>
                <a:latin typeface="Times New Roman"/>
              </a:rPr>
              <a:t>:</a:t>
            </a:r>
            <a:br>
              <a:rPr sz="4400"/>
            </a:br>
            <a:r>
              <a:rPr b="1" lang="ru-RU" sz="4400" spc="-1" strike="noStrike">
                <a:solidFill>
                  <a:srgbClr val="7c5412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44560"/>
            <a:ext cx="16668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000000"/>
                </a:solidFill>
                <a:latin typeface="Vrinda"/>
              </a:rPr>
              <a:t>·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3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000000"/>
                </a:solidFill>
                <a:latin typeface="Vrinda"/>
              </a:rPr>
              <a:t>·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2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000000"/>
                </a:solidFill>
                <a:latin typeface="Vrinda"/>
              </a:rPr>
              <a:t>·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1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Vrinda"/>
              </a:rPr>
              <a:t>·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0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214720" y="1639800"/>
            <a:ext cx="417636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 + 6+ 6 =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 + 6 =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0+0+0+0+0+0=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782160" y="414972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c5412"/>
                </a:solidFill>
                <a:latin typeface="Times New Roman"/>
              </a:rPr>
              <a:t>Найти значения выражений</a:t>
            </a:r>
            <a:r>
              <a:rPr b="1" lang="ru-RU" sz="4400" spc="-1" strike="noStrike">
                <a:solidFill>
                  <a:srgbClr val="7c5412"/>
                </a:solidFill>
                <a:latin typeface="Times New Roman"/>
              </a:rPr>
              <a:t>:</a:t>
            </a:r>
            <a:br>
              <a:rPr sz="4400"/>
            </a:br>
            <a:r>
              <a:rPr b="1" lang="ru-RU" sz="4400" spc="-1" strike="noStrike">
                <a:solidFill>
                  <a:srgbClr val="7c5412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44560"/>
            <a:ext cx="16668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000000"/>
                </a:solidFill>
                <a:latin typeface="Vrinda"/>
              </a:rPr>
              <a:t>·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3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000000"/>
                </a:solidFill>
                <a:latin typeface="Vrinda"/>
              </a:rPr>
              <a:t>·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2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3600" spc="-1" strike="noStrike">
                <a:solidFill>
                  <a:srgbClr val="000000"/>
                </a:solidFill>
                <a:latin typeface="Vrinda"/>
              </a:rPr>
              <a:t>·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1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Vrinda"/>
              </a:rPr>
              <a:t>·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0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214720" y="1639800"/>
            <a:ext cx="417636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 + 6+ 6 =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 + 6 =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0+0+0+0+0+0=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782160" y="414972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7c5412"/>
                </a:solidFill>
                <a:uFillTx/>
                <a:latin typeface="Times New Roman"/>
              </a:rPr>
              <a:t>Тема   урока:</a:t>
            </a:r>
            <a:endParaRPr b="1" lang="en-US" sz="5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0" y="2852280"/>
            <a:ext cx="896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«Умножение на 0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c5412"/>
                </a:solidFill>
                <a:uFillTx/>
                <a:latin typeface="Times New Roman"/>
              </a:rPr>
              <a:t>Цель урока:</a:t>
            </a: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Цель урока: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. Познакомиться с правилом умножения на 0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. Совершенствовать вычислительные навыки и умение решать задачи, уравнения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. Развивать наблюдательность, логическое мышление и умение рассужда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c5412"/>
                </a:solidFill>
                <a:uFillTx/>
                <a:latin typeface="Times New Roman"/>
              </a:rPr>
              <a:t>Правила «нуля»</a:t>
            </a: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2195640" y="1268280"/>
            <a:ext cx="481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000000"/>
                </a:solidFill>
                <a:latin typeface="Vrinda"/>
              </a:rPr>
              <a:t>а</a:t>
            </a:r>
            <a:r>
              <a:rPr b="1" lang="ru-RU" sz="117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Vrinda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Vrinda"/>
              </a:rPr>
              <a:t>  </a:t>
            </a:r>
            <a:r>
              <a:rPr b="1" i="1" lang="ru-RU" sz="11700" spc="-1" strike="noStrike">
                <a:solidFill>
                  <a:srgbClr val="000000"/>
                </a:solidFill>
                <a:latin typeface="Vrinda"/>
              </a:rPr>
              <a:t>0</a:t>
            </a:r>
            <a:r>
              <a:rPr b="1" i="1" lang="ru-RU" sz="4000" spc="-1" strike="noStrike">
                <a:solidFill>
                  <a:srgbClr val="000000"/>
                </a:solidFill>
                <a:latin typeface="Vrinda"/>
              </a:rPr>
              <a:t> </a:t>
            </a:r>
            <a:r>
              <a:rPr b="1" i="1" lang="ru-RU" sz="11700" spc="-1" strike="noStrike">
                <a:solidFill>
                  <a:srgbClr val="000000"/>
                </a:solidFill>
                <a:latin typeface="Vrinda"/>
              </a:rPr>
              <a:t>=</a:t>
            </a:r>
            <a:r>
              <a:rPr b="1" i="1" lang="ru-RU" sz="4000" spc="-1" strike="noStrike">
                <a:solidFill>
                  <a:srgbClr val="000000"/>
                </a:solidFill>
                <a:latin typeface="Vrinda"/>
              </a:rPr>
              <a:t> </a:t>
            </a:r>
            <a:r>
              <a:rPr b="1" i="1" lang="ru-RU" sz="11700" spc="-1" strike="noStrike">
                <a:solidFill>
                  <a:srgbClr val="000000"/>
                </a:solidFill>
                <a:latin typeface="Vrinda"/>
              </a:rPr>
              <a:t>0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1979640" y="4983120"/>
            <a:ext cx="518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000000"/>
                </a:solidFill>
                <a:latin typeface="Vrinda"/>
              </a:rPr>
              <a:t> 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1908000" y="3645000"/>
            <a:ext cx="5400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000000"/>
                </a:solidFill>
                <a:latin typeface="Vrinda"/>
              </a:rPr>
              <a:t> 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19"/>
          <p:cNvGrpSpPr/>
          <p:nvPr/>
        </p:nvGrpSpPr>
        <p:grpSpPr>
          <a:xfrm>
            <a:off x="2700360" y="2349360"/>
            <a:ext cx="3528720" cy="2059920"/>
            <a:chOff x="2700360" y="2349360"/>
            <a:chExt cx="3528720" cy="2059920"/>
          </a:xfrm>
        </p:grpSpPr>
        <p:sp>
          <p:nvSpPr>
            <p:cNvPr id="150" name="Text Box 9"/>
            <p:cNvSpPr/>
            <p:nvPr/>
          </p:nvSpPr>
          <p:spPr>
            <a:xfrm>
              <a:off x="2940480" y="2349360"/>
              <a:ext cx="2989800" cy="20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1700" spc="-1" strike="noStrike">
                  <a:solidFill>
                    <a:srgbClr val="000000"/>
                  </a:solidFill>
                  <a:latin typeface="Vrinda"/>
                </a:rPr>
                <a:t>а</a:t>
              </a:r>
              <a:r>
                <a:rPr b="1" lang="ru-RU" sz="117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ru-RU" sz="12900" spc="-1" strike="noStrike">
                  <a:solidFill>
                    <a:srgbClr val="000000"/>
                  </a:solidFill>
                  <a:latin typeface="Vrinda"/>
                </a:rPr>
                <a:t>:</a:t>
              </a:r>
              <a:r>
                <a:rPr b="1" lang="ru-RU" sz="2800" spc="-1" strike="noStrike">
                  <a:solidFill>
                    <a:srgbClr val="000000"/>
                  </a:solidFill>
                  <a:latin typeface="Vrinda"/>
                </a:rPr>
                <a:t> </a:t>
              </a:r>
              <a:r>
                <a:rPr b="1" i="1" lang="ru-RU" sz="11700" spc="-1" strike="noStrike">
                  <a:solidFill>
                    <a:srgbClr val="000000"/>
                  </a:solidFill>
                  <a:latin typeface="Vrinda"/>
                </a:rPr>
                <a:t>0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Vrinda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>
              <a:off x="2700360" y="2852640"/>
              <a:ext cx="3447720" cy="1297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 flipV="1">
              <a:off x="2779560" y="2852640"/>
              <a:ext cx="3449520" cy="1224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c5412"/>
                </a:solidFill>
                <a:latin typeface="Times New Roman"/>
              </a:rPr>
              <a:t>Проверка по эталону:</a:t>
            </a: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8 • 0 = 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2 -0 =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• 19= 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2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9 • 0 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 • 0 =0           1 • 49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 • 1 = 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(6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) • 9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2 • 0 = 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8 • ( 5 - 5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c5412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7c5412"/>
                </a:solidFill>
                <a:latin typeface="Times New Roman"/>
              </a:rPr>
              <a:t>Решение задачи. № 4 (1).</a:t>
            </a:r>
            <a:br>
              <a:rPr sz="4400"/>
            </a:br>
            <a:endParaRPr b="1" lang="en-US" sz="4400" spc="-1" strike="noStrike">
              <a:solidFill>
                <a:srgbClr val="7c5412"/>
              </a:solidFill>
              <a:latin typeface="Times New Roman"/>
            </a:endParaRPr>
          </a:p>
        </p:txBody>
      </p:sp>
      <p:pic>
        <p:nvPicPr>
          <p:cNvPr id="156" name="Содержимое 5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50799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3:45:25Z</dcterms:created>
  <dc:creator>User</dc:creator>
  <dc:description/>
  <cp:keywords/>
  <dc:language>en-US</dc:language>
  <cp:lastModifiedBy>RePack by SPecialiST</cp:lastModifiedBy>
  <dcterms:modified xsi:type="dcterms:W3CDTF">2025-04-07T13:24:37Z</dcterms:modified>
  <cp:revision>24</cp:revision>
  <dc:subject/>
  <dc:title>Тема   уро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91049</vt:lpwstr>
  </property>
</Properties>
</file>